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39E1-18BE-40FB-82A1-5412E3023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5C12-2BC6-4A53-88F4-F8268AA48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F75-50C4-471D-AE31-5BD3C9EC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DC7-286E-42D4-836F-006943FE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FAC-E8D5-4F74-8434-9BFD2371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C00-CA03-48B0-A4F3-6A840D70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FA6-E3DF-4CF8-ADE5-053BF396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674-7D40-42D1-B4A0-7447D746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DCF-94B1-4B1E-8551-A704950D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922-4033-4F8C-B838-55A14CF2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E3E-7445-4E82-B274-31AA564F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640-46EB-4001-AE70-8E05EB38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01E-F5FC-4605-BEF6-1EB90348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FDC-EB29-4EFF-B56F-5BF39F5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ECF5-27F8-409C-9D7A-813D30741A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00240" y="1928520"/>
            <a:ext cx="614376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24b50"/>
                </a:solidFill>
                <a:latin typeface="Arial"/>
              </a:rPr>
              <a:t>Роль органов государственной власти в развитии и инфраструктурном обеспечении процессов кооперации научных, образовательных организаций  и производственных предприятий региона (на примере проекта создания Воронежского распределенного технопарка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0920" y="27468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БОУ ВПО «ВГУИТ»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ая научно-практическая конференция «Проблемы практической подготовки студен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8358120" y="6643800"/>
            <a:ext cx="785880" cy="214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520" y="14292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и экономического и научно-технического потенциала Воронеж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356840"/>
            <a:ext cx="864216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2920" y="1428840"/>
          <a:ext cx="4286160" cy="5286240"/>
        </p:xfrm>
        <a:graphic>
          <a:graphicData uri="http://schemas.openxmlformats.org/drawingml/2006/table">
            <a:tbl>
              <a:tblPr/>
              <a:tblGrid>
                <a:gridCol w="1571760"/>
                <a:gridCol w="785520"/>
                <a:gridCol w="785880"/>
                <a:gridCol w="114300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Место среди субъектов РФ / Ц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П на душу населения, руб. (2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94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5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/ 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ВРП, 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6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/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продукции СХ, 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19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/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отгруженной промышленной продукции, 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/ 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екс производительности труда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/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продукции высокотехнологичных и наукоемких отраслей в ВРП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/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инвестиций в основной капитал в ВРП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/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внутренних затрат на НИОКР в ВРП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/ 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0" y="1428840"/>
          <a:ext cx="4429080" cy="5286240"/>
        </p:xfrm>
        <a:graphic>
          <a:graphicData uri="http://schemas.openxmlformats.org/drawingml/2006/table">
            <a:tbl>
              <a:tblPr/>
              <a:tblGrid>
                <a:gridCol w="1714680"/>
                <a:gridCol w="857160"/>
                <a:gridCol w="1000080"/>
                <a:gridCol w="85716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Место среди субъектов РФ / ЦФ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новационная активность организаций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/ 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ициент изобретательской активности, ед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/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технологические инновации, 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242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/ 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внутренних затрат на НИОКР, 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7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7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/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персонала, занятого НИОКР, че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0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/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исследователей, имеющих научную степень, чел.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т.ч. доктора на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 (15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85 (25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/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/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мые передовые технологии, ед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8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/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5" name="Прямоугольник 5"/>
          <p:cNvSpPr/>
          <p:nvPr/>
        </p:nvSpPr>
        <p:spPr>
          <a:xfrm>
            <a:off x="8358120" y="6643800"/>
            <a:ext cx="785880" cy="214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c1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ы инфраструктуры техноп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C:\Users\Александр\AppData\Local\Microsoft\Windows\INetCache\Content.Word\Рисунок2.png"/>
          <p:cNvPicPr/>
          <p:nvPr/>
        </p:nvPicPr>
        <p:blipFill>
          <a:blip r:embed="rId1"/>
          <a:stretch/>
        </p:blipFill>
        <p:spPr>
          <a:xfrm>
            <a:off x="357120" y="1357200"/>
            <a:ext cx="8572680" cy="2347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C:\Users\Александр\AppData\Local\Microsoft\Windows\INetCache\Content.Word\Рисунок6.png"/>
          <p:cNvPicPr/>
          <p:nvPr/>
        </p:nvPicPr>
        <p:blipFill>
          <a:blip r:embed="rId2"/>
          <a:stretch/>
        </p:blipFill>
        <p:spPr>
          <a:xfrm>
            <a:off x="285840" y="3714840"/>
            <a:ext cx="8643960" cy="29210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8358120" y="6643800"/>
            <a:ext cx="785880" cy="214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c1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893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ы инфраструктурной поддержки на стадиях развития проекта от «идеи» до «производ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" descr="C:\Users\Александр\Desktop\Новая папка\Рисунок12.jpg"/>
          <p:cNvPicPr/>
          <p:nvPr/>
        </p:nvPicPr>
        <p:blipFill>
          <a:blip r:embed="rId1"/>
          <a:stretch/>
        </p:blipFill>
        <p:spPr>
          <a:xfrm>
            <a:off x="214200" y="1357200"/>
            <a:ext cx="2928960" cy="16430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C:\Users\Александр\Desktop\Новая папка\Рисунок13.jpg"/>
          <p:cNvPicPr/>
          <p:nvPr/>
        </p:nvPicPr>
        <p:blipFill>
          <a:blip r:embed="rId2"/>
          <a:stretch/>
        </p:blipFill>
        <p:spPr>
          <a:xfrm>
            <a:off x="3214800" y="1357200"/>
            <a:ext cx="2928960" cy="1643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C:\Users\Александр\Desktop\Новая папка\Рисунок14.jpg"/>
          <p:cNvPicPr/>
          <p:nvPr/>
        </p:nvPicPr>
        <p:blipFill>
          <a:blip r:embed="rId3"/>
          <a:stretch/>
        </p:blipFill>
        <p:spPr>
          <a:xfrm>
            <a:off x="6215040" y="1357200"/>
            <a:ext cx="2928960" cy="1643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C:\Users\Александр\Desktop\Новая папка\Рисунок15.jpg"/>
          <p:cNvPicPr/>
          <p:nvPr/>
        </p:nvPicPr>
        <p:blipFill>
          <a:blip r:embed="rId4"/>
          <a:stretch/>
        </p:blipFill>
        <p:spPr>
          <a:xfrm>
            <a:off x="214200" y="3000240"/>
            <a:ext cx="4714920" cy="37148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1" descr="C:\Users\Александр\Desktop\Новая папка\Рисунок16.jpg"/>
          <p:cNvPicPr/>
          <p:nvPr/>
        </p:nvPicPr>
        <p:blipFill>
          <a:blip r:embed="rId5"/>
          <a:stretch/>
        </p:blipFill>
        <p:spPr>
          <a:xfrm>
            <a:off x="3000240" y="3143160"/>
            <a:ext cx="4143600" cy="3214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Рисунок1"/>
          <p:cNvPicPr/>
          <p:nvPr/>
        </p:nvPicPr>
        <p:blipFill>
          <a:blip r:embed="rId6"/>
          <a:stretch/>
        </p:blipFill>
        <p:spPr>
          <a:xfrm>
            <a:off x="4929120" y="3714840"/>
            <a:ext cx="4214880" cy="3143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8572680" y="6715080"/>
            <a:ext cx="571320" cy="142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c1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взаимодействия технопарка с ВУЗам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ыми и производственны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28840"/>
            <a:ext cx="86421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8358120" y="6643800"/>
            <a:ext cx="785880" cy="214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c1d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хема 4" descr=""/>
          <p:cNvPicPr/>
          <p:nvPr/>
        </p:nvPicPr>
        <p:blipFill>
          <a:blip r:embed="rId1"/>
          <a:stretch/>
        </p:blipFill>
        <p:spPr>
          <a:xfrm>
            <a:off x="268200" y="1401840"/>
            <a:ext cx="87105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686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и финансирования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вые показатели техноп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7120" y="1357200"/>
          <a:ext cx="4614840" cy="2818080"/>
        </p:xfrm>
        <a:graphic>
          <a:graphicData uri="http://schemas.openxmlformats.org/drawingml/2006/table">
            <a:tbl>
              <a:tblPr/>
              <a:tblGrid>
                <a:gridCol w="471600"/>
                <a:gridCol w="2886120"/>
                <a:gridCol w="1257120"/>
              </a:tblGrid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Название технопар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Сметная стоимость, тыс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опарк «Академпарк», г.Новосибир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 267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опарк «Мордовия», г.Саран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 110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опарк «Саров», Нижегородская об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 500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опарк 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T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Парк», г.Каза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 005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опарк «Ханты-Мансийск», ХМА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 032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Воронежский распределенный технопарк (</a:t>
                      </a:r>
                      <a:r>
                        <a:rPr b="0" i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в соответствии с концепцией</a:t>
                      </a:r>
                      <a:r>
                        <a:rPr b="0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3 031 0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57120" y="4286160"/>
          <a:ext cx="8643960" cy="2268720"/>
        </p:xfrm>
        <a:graphic>
          <a:graphicData uri="http://schemas.openxmlformats.org/drawingml/2006/table">
            <a:tbl>
              <a:tblPr/>
              <a:tblGrid>
                <a:gridCol w="3195720"/>
                <a:gridCol w="727200"/>
                <a:gridCol w="653760"/>
                <a:gridCol w="652680"/>
                <a:gridCol w="726840"/>
                <a:gridCol w="727200"/>
                <a:gridCol w="725400"/>
                <a:gridCol w="663840"/>
                <a:gridCol w="5713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Показ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2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20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c1c1d"/>
                          </a:solidFill>
                          <a:latin typeface="Arial"/>
                          <a:ea typeface="Calibri"/>
                        </a:rPr>
                        <a:t>2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ичество резид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ичество высокопроизводительных рабочих ме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овокупная выручка резидентов (млрд. 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нт загруженности офисных и производственных площадей технопар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нт загруженности оборудования коллективного поль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5" name="Прямоугольник 5"/>
          <p:cNvSpPr/>
          <p:nvPr/>
        </p:nvSpPr>
        <p:spPr>
          <a:xfrm>
            <a:off x="8358120" y="6643800"/>
            <a:ext cx="785880" cy="214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c1d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5143680" y="1357200"/>
            <a:ext cx="3929040" cy="285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8"/>
          <p:cNvSpPr/>
          <p:nvPr/>
        </p:nvSpPr>
        <p:spPr>
          <a:xfrm>
            <a:off x="5214960" y="1428840"/>
            <a:ext cx="3786120" cy="92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c1c1d"/>
                </a:solidFill>
                <a:latin typeface="Arial"/>
              </a:rPr>
              <a:t>Подпрограмма «Развитие малого и среднего предпринимательства» государственной программы Российской Федерации «Экономическое развитие и инновационная эконом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9"/>
          <p:cNvSpPr/>
          <p:nvPr/>
        </p:nvSpPr>
        <p:spPr>
          <a:xfrm>
            <a:off x="5214960" y="2428920"/>
            <a:ext cx="3786120" cy="57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c1c1d"/>
                </a:solidFill>
                <a:latin typeface="Arial"/>
              </a:rPr>
              <a:t>Государственная программа Российской Федерации «Развитие промышленности и повышение ее конкурентоспособ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1"/>
          <p:cNvSpPr/>
          <p:nvPr/>
        </p:nvSpPr>
        <p:spPr>
          <a:xfrm>
            <a:off x="5214960" y="3071880"/>
            <a:ext cx="378612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c1c1d"/>
                </a:solidFill>
                <a:latin typeface="Arial"/>
              </a:rPr>
              <a:t>Государственно-частное партнерство.</a:t>
            </a:r>
            <a:r>
              <a:rPr b="0" lang="ru-RU" sz="1200" spc="-1" strike="noStrike">
                <a:solidFill>
                  <a:srgbClr val="0c1c1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c1c1d"/>
                </a:solidFill>
                <a:latin typeface="Arial"/>
              </a:rPr>
              <a:t>В соответствии со ст. 8 Закона ВО от 01.11.2011 (в ред. от 25.12.2013) № 151-ОЗ «участие Воронежской области в проектах ГЧП осуществляется в целях создания, реконструкции и (или) эксплуатации объектов общественной, инновационной инфраструктуры, входящих в состав технологических и индустриальных парков, отраслевых кластерных образований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pigunova</cp:lastModifiedBy>
  <dcterms:modified xsi:type="dcterms:W3CDTF">2014-12-23T11:52:20Z</dcterms:modified>
  <cp:revision>94</cp:revision>
  <dc:subject/>
  <dc:title>Texto</dc:title>
</cp:coreProperties>
</file>