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92C1-F430-4019-8AB5-9433A9626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64A6-0E8A-48B0-9180-D2E284F26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18A6-9B40-46ED-B8F5-88C7FC899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0F16-C0EF-44E3-A973-C3D810477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373E-ACCD-4E62-B919-2F0206B55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C0E2-AC3F-4160-8781-508A76CB7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E9EA-2AB7-42A9-9DFF-D8C41B67D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2CE9-6349-4026-AD91-F12C3EE87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F1CB-8719-4B11-896A-BC425F05C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FA11-B4CB-4399-968A-BDB0173C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98BB-41DC-4C24-AE0F-F7524F83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8CF6-27E0-4711-B6B0-A0E596836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12081-91A7-4A9F-9821-1BCD1CE07B7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71520" y="1785600"/>
            <a:ext cx="471492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Заседание комиссии по формированию и развитию технопар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2"/>
          <p:cNvSpPr/>
          <p:nvPr/>
        </p:nvSpPr>
        <p:spPr>
          <a:xfrm>
            <a:off x="4214880" y="5143680"/>
            <a:ext cx="39607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4 июня 2016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10"/>
          <p:cNvSpPr/>
          <p:nvPr/>
        </p:nvSpPr>
        <p:spPr>
          <a:xfrm>
            <a:off x="2428920" y="428760"/>
            <a:ext cx="60721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ДЕПАРТАМЕНТ ПРОМЫШЛЕННОСТИ ВОРОНЕЖ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 изменениях в областном законодательстве о технопарках в Воронеж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400960" cy="50245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Схема 3" descr=""/>
          <p:cNvPicPr/>
          <p:nvPr/>
        </p:nvPicPr>
        <p:blipFill>
          <a:blip r:embed="rId2"/>
          <a:stretch/>
        </p:blipFill>
        <p:spPr>
          <a:xfrm>
            <a:off x="506520" y="1341360"/>
            <a:ext cx="8442360" cy="5035680"/>
          </a:xfrm>
          <a:prstGeom prst="rect">
            <a:avLst/>
          </a:prstGeom>
          <a:ln w="0">
            <a:noFill/>
          </a:ln>
        </p:spPr>
      </p:pic>
      <p:sp>
        <p:nvSpPr>
          <p:cNvPr id="47" name="Стрелка вправо 4"/>
          <p:cNvSpPr/>
          <p:nvPr/>
        </p:nvSpPr>
        <p:spPr>
          <a:xfrm>
            <a:off x="4429080" y="2286000"/>
            <a:ext cx="642960" cy="500040"/>
          </a:xfrm>
          <a:prstGeom prst="rightArrow">
            <a:avLst>
              <a:gd name="adj1" fmla="val 50000"/>
              <a:gd name="adj2" fmla="val 50004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трелка вниз 5"/>
          <p:cNvSpPr/>
          <p:nvPr/>
        </p:nvSpPr>
        <p:spPr>
          <a:xfrm>
            <a:off x="2071800" y="3714840"/>
            <a:ext cx="571320" cy="35712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трелка вниз 6"/>
          <p:cNvSpPr/>
          <p:nvPr/>
        </p:nvSpPr>
        <p:spPr>
          <a:xfrm>
            <a:off x="6643800" y="3714840"/>
            <a:ext cx="571320" cy="35712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 изменениях в областном законодательстве о технопарках в Воронеж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400960" cy="50245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Схема 3" descr=""/>
          <p:cNvPicPr/>
          <p:nvPr/>
        </p:nvPicPr>
        <p:blipFill>
          <a:blip r:embed="rId2"/>
          <a:stretch/>
        </p:blipFill>
        <p:spPr>
          <a:xfrm>
            <a:off x="554040" y="1341360"/>
            <a:ext cx="832788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лок-схема исполнения государственной функции «Мониторинг состояния и развития технопарков и оценка эффективности мер государственной (областной) поддержки технопарков» </a:t>
            </a:r>
            <a:br>
              <a:rPr sz="16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1"/>
          <p:cNvGrpSpPr/>
          <p:nvPr/>
        </p:nvGrpSpPr>
        <p:grpSpPr>
          <a:xfrm>
            <a:off x="0" y="1311120"/>
            <a:ext cx="9144000" cy="5546880"/>
            <a:chOff x="0" y="1311120"/>
            <a:chExt cx="9144000" cy="5546880"/>
          </a:xfrm>
        </p:grpSpPr>
        <p:sp>
          <p:nvSpPr>
            <p:cNvPr id="57" name="AutoShape 13"/>
            <p:cNvSpPr/>
            <p:nvPr/>
          </p:nvSpPr>
          <p:spPr>
            <a:xfrm>
              <a:off x="0" y="1311120"/>
              <a:ext cx="9144000" cy="5546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2"/>
            <p:cNvSpPr/>
            <p:nvPr/>
          </p:nvSpPr>
          <p:spPr>
            <a:xfrm>
              <a:off x="891000" y="1436400"/>
              <a:ext cx="3195360" cy="1536840"/>
            </a:xfrm>
            <a:prstGeom prst="rect">
              <a:avLst/>
            </a:prstGeom>
            <a:gradFill rotWithShape="0">
              <a:gsLst>
                <a:gs pos="0">
                  <a:srgbClr val="acace1"/>
                </a:gs>
                <a:gs pos="100000">
                  <a:srgbClr val="e9e9f7"/>
                </a:gs>
              </a:gsLst>
              <a:lin ang="16200000"/>
            </a:gradFill>
            <a:ln w="9360">
              <a:solidFill>
                <a:srgbClr val="29298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Times New Roman"/>
                </a:rPr>
                <a:t>УПОЛНОМОЧЕННЫЙ ОРГАН </a:t>
              </a:r>
              <a:r>
                <a:rPr b="1" i="1" lang="es-ES" sz="1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1" i="1" lang="es-ES" sz="1400" spc="-1" strike="noStrike">
                  <a:solidFill>
                    <a:srgbClr val="000000"/>
                  </a:solidFill>
                  <a:latin typeface="Times New Roman"/>
                </a:rPr>
                <a:t> ДЕПАРТАМЕНТ ПРОМЫШЛЕННОСТИ ОБЛАС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utoShape 11"/>
            <p:cNvSpPr/>
            <p:nvPr/>
          </p:nvSpPr>
          <p:spPr>
            <a:xfrm>
              <a:off x="4630320" y="1436400"/>
              <a:ext cx="4221360" cy="1657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Служебная записка с оценкой эффективности деятельности технопарков в Воронежской области  и предложениями по корректировке областного реестра технопарков и областного реестра резидентов технопарков –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0000"/>
                  </a:solidFill>
                  <a:latin typeface="Arial"/>
                </a:rPr>
                <a:t>до 1 июн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AutoShape 10"/>
            <p:cNvSpPr/>
            <p:nvPr/>
          </p:nvSpPr>
          <p:spPr>
            <a:xfrm>
              <a:off x="735840" y="4036680"/>
              <a:ext cx="3349440" cy="914400"/>
            </a:xfrm>
            <a:prstGeom prst="flowChartMultidocument">
              <a:avLst/>
            </a:prstGeom>
            <a:gradFill rotWithShape="0">
              <a:gsLst>
                <a:gs pos="0">
                  <a:srgbClr val="9fb2b3"/>
                </a:gs>
                <a:gs pos="100000">
                  <a:srgbClr val="d1eaec"/>
                </a:gs>
              </a:gsLst>
              <a:lin ang="16200000"/>
            </a:gradFill>
            <a:ln w="9360">
              <a:solidFill>
                <a:srgbClr val="d5e8ea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Times New Roman"/>
                </a:rPr>
                <a:t>УПРАВЛЯЮЩИЕ ОРГАНИЗАЦИИ ТЕХНОПАРК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9"/>
            <p:cNvSpPr/>
            <p:nvPr/>
          </p:nvSpPr>
          <p:spPr>
            <a:xfrm>
              <a:off x="735840" y="5617800"/>
              <a:ext cx="3349440" cy="942840"/>
            </a:xfrm>
            <a:prstGeom prst="flowChartMultidocumen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Times New Roman"/>
                </a:rPr>
                <a:t>РЕЗИДЕНТЫ ТЕХНОПАРК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AutoShape 8"/>
            <p:cNvSpPr/>
            <p:nvPr/>
          </p:nvSpPr>
          <p:spPr>
            <a:xfrm>
              <a:off x="4642920" y="4036680"/>
              <a:ext cx="4330800" cy="845640"/>
            </a:xfrm>
            <a:prstGeom prst="roundRect">
              <a:avLst>
                <a:gd name="adj" fmla="val 16667"/>
              </a:avLst>
            </a:prstGeom>
            <a:solidFill>
              <a:srgbClr val="daedef"/>
            </a:solidFill>
            <a:ln w="25560">
              <a:solidFill>
                <a:srgbClr val="a0ae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Сводный отчет о результатах деятельности технопарка и резидентов технопарка – </a:t>
              </a:r>
              <a:r>
                <a:rPr b="1" i="1" lang="es-ES" sz="2000" spc="-1" strike="noStrike">
                  <a:solidFill>
                    <a:srgbClr val="000000"/>
                  </a:solidFill>
                  <a:latin typeface="Arial"/>
                </a:rPr>
                <a:t>до 1 м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utoShape 7"/>
            <p:cNvSpPr/>
            <p:nvPr/>
          </p:nvSpPr>
          <p:spPr>
            <a:xfrm>
              <a:off x="4642920" y="5617800"/>
              <a:ext cx="4314600" cy="811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Информация о результатах деятельност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0000"/>
                  </a:solidFill>
                  <a:latin typeface="Arial"/>
                </a:rPr>
                <a:t>до 20 апрел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AutoShape 6"/>
            <p:cNvSpPr/>
            <p:nvPr/>
          </p:nvSpPr>
          <p:spPr>
            <a:xfrm>
              <a:off x="1729080" y="4863960"/>
              <a:ext cx="5772240" cy="707760"/>
            </a:xfrm>
            <a:prstGeom prst="upDownArrow">
              <a:avLst>
                <a:gd name="adj1" fmla="val 50000"/>
                <a:gd name="adj2" fmla="val 19907"/>
              </a:avLst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Соглашение о ведении деятельност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utoShape 5"/>
            <p:cNvSpPr/>
            <p:nvPr/>
          </p:nvSpPr>
          <p:spPr>
            <a:xfrm>
              <a:off x="1186560" y="3156120"/>
              <a:ext cx="6932520" cy="836640"/>
            </a:xfrm>
            <a:prstGeom prst="upDownArrow">
              <a:avLst>
                <a:gd name="adj1" fmla="val 50000"/>
                <a:gd name="adj2" fmla="val 19907"/>
              </a:avLst>
            </a:prstGeom>
            <a:gradFill rotWithShape="0">
              <a:gsLst>
                <a:gs pos="0">
                  <a:srgbClr val="acace1"/>
                </a:gs>
                <a:gs pos="100000">
                  <a:srgbClr val="e9e9f7"/>
                </a:gs>
              </a:gsLst>
              <a:lin ang="16200000"/>
            </a:gradFill>
            <a:ln w="9360">
              <a:solidFill>
                <a:srgbClr val="29298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Соглашение о реализации проекта по созданию технопар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" name="AutoShape 4"/>
            <p:cNvGrpSpPr/>
            <p:nvPr/>
          </p:nvGrpSpPr>
          <p:grpSpPr>
            <a:xfrm>
              <a:off x="3846240" y="5693400"/>
              <a:ext cx="810360" cy="615600"/>
              <a:chOff x="3846240" y="5693400"/>
              <a:chExt cx="810360" cy="615600"/>
            </a:xfrm>
          </p:grpSpPr>
          <p:pic>
            <p:nvPicPr>
              <p:cNvPr id="67" name="AutoShape 4" descr=""/>
              <p:cNvPicPr/>
              <p:nvPr/>
            </p:nvPicPr>
            <p:blipFill>
              <a:blip r:embed="rId3"/>
              <a:stretch/>
            </p:blipFill>
            <p:spPr>
              <a:xfrm>
                <a:off x="3846240" y="5693400"/>
                <a:ext cx="810360" cy="61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" name=""/>
              <p:cNvSpPr/>
              <p:nvPr/>
            </p:nvSpPr>
            <p:spPr>
              <a:xfrm>
                <a:off x="3857040" y="5857920"/>
                <a:ext cx="67356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" name="AutoShape 3"/>
            <p:cNvSpPr/>
            <p:nvPr/>
          </p:nvSpPr>
          <p:spPr>
            <a:xfrm>
              <a:off x="3857760" y="4143240"/>
              <a:ext cx="787680" cy="571320"/>
            </a:xfrm>
            <a:prstGeom prst="rightArrow">
              <a:avLst>
                <a:gd name="adj1" fmla="val 50000"/>
                <a:gd name="adj2" fmla="val 54676"/>
              </a:avLst>
            </a:prstGeom>
            <a:gradFill rotWithShape="0">
              <a:gsLst>
                <a:gs pos="0">
                  <a:srgbClr val="85aaad"/>
                </a:gs>
                <a:gs pos="100000">
                  <a:srgbClr val="afe0e4"/>
                </a:gs>
              </a:gsLst>
              <a:lin ang="162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" name="AutoShape 2"/>
            <p:cNvGrpSpPr/>
            <p:nvPr/>
          </p:nvGrpSpPr>
          <p:grpSpPr>
            <a:xfrm>
              <a:off x="3871440" y="1889280"/>
              <a:ext cx="859680" cy="639720"/>
              <a:chOff x="3871440" y="1889280"/>
              <a:chExt cx="859680" cy="639720"/>
            </a:xfrm>
          </p:grpSpPr>
          <p:pic>
            <p:nvPicPr>
              <p:cNvPr id="71" name="AutoShape 2" descr=""/>
              <p:cNvPicPr/>
              <p:nvPr/>
            </p:nvPicPr>
            <p:blipFill>
              <a:blip r:embed="rId4"/>
              <a:stretch/>
            </p:blipFill>
            <p:spPr>
              <a:xfrm>
                <a:off x="3871440" y="1889280"/>
                <a:ext cx="859680" cy="63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" name=""/>
              <p:cNvSpPr/>
              <p:nvPr/>
            </p:nvSpPr>
            <p:spPr>
              <a:xfrm>
                <a:off x="3929760" y="2059920"/>
                <a:ext cx="646200" cy="26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введении механизма продления статуса технопарка и резидента технопа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5"/>
          <p:cNvSpPr/>
          <p:nvPr/>
        </p:nvSpPr>
        <p:spPr>
          <a:xfrm>
            <a:off x="4786200" y="1143000"/>
            <a:ext cx="4071960" cy="5500800"/>
          </a:xfrm>
          <a:custGeom>
            <a:avLst/>
            <a:gdLst>
              <a:gd name="textAreaLeft" fmla="*/ 198720 w 4071960"/>
              <a:gd name="textAreaRight" fmla="*/ 3873240 w 4071960"/>
              <a:gd name="textAreaTop" fmla="*/ 198720 h 5500800"/>
              <a:gd name="textAreaBottom" fmla="*/ 5302080 h 5500800"/>
            </a:gdLst>
            <a:ahLst/>
            <a:rect l="textAreaLeft" t="textAreaTop" r="textAreaRight" b="textAreaBottom"/>
            <a:pathLst>
              <a:path w="21600" h="29179">
                <a:moveTo>
                  <a:pt x="3600" y="0"/>
                </a:moveTo>
                <a:arcTo wR="3600" hR="3600" stAng="16200000" swAng="-5400000"/>
                <a:lnTo>
                  <a:pt x="0" y="25579"/>
                </a:lnTo>
                <a:arcTo wR="3600" hR="3600" stAng="10800000" swAng="-5400000"/>
                <a:lnTo>
                  <a:pt x="18000" y="291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ОКУМЕНТЫ (не позднее 60 дней до даты окончания срок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явление (ходатайство УО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резидент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знес-пла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пии бухгалтерских балансов и приложений к ним за предыдущий год и предшествующие кварталы текущего года с отметкой налоговой инспекции. (только для технопарк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пии учредительных докуме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авка об отсутствии просроченной задолженности по предоставленным ранее на возвратных условиях бюджетным средствам, заверенная подписью руководителя и печат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авка об отсутствии нецелевого расходования бюджетных средств, заверенная подписью руководителя и печат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пия свидетельства о постановке на учет в налоговом органе по месту нахож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авка из налоговых органов об отсутствии задолженности по начисленным налогам, сборам и иным обязательным платежам в бюджеты бюджетной системы РФ на дату подачи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говор с управляющей организацией (базовой организацией) технопарка о размещении на территории технопарка с использованием оборудования технопарка (для резидент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кругленный прямоугольник 6"/>
          <p:cNvSpPr/>
          <p:nvPr/>
        </p:nvSpPr>
        <p:spPr>
          <a:xfrm>
            <a:off x="357120" y="1143000"/>
            <a:ext cx="4286160" cy="5500800"/>
          </a:xfrm>
          <a:custGeom>
            <a:avLst/>
            <a:gdLst>
              <a:gd name="textAreaLeft" fmla="*/ 209160 w 4286160"/>
              <a:gd name="textAreaRight" fmla="*/ 4077000 w 4286160"/>
              <a:gd name="textAreaTop" fmla="*/ 209160 h 5500800"/>
              <a:gd name="textAreaBottom" fmla="*/ 5291640 h 5500800"/>
            </a:gdLst>
            <a:ahLst/>
            <a:rect l="textAreaLeft" t="textAreaTop" r="textAreaRight" b="textAreaBottom"/>
            <a:pathLst>
              <a:path w="21600" h="27721">
                <a:moveTo>
                  <a:pt x="3600" y="0"/>
                </a:moveTo>
                <a:arcTo wR="3600" hR="3600" stAng="16200000" swAng="-5400000"/>
                <a:lnTo>
                  <a:pt x="0" y="24121"/>
                </a:lnTo>
                <a:arcTo wR="3600" hR="3600" stAng="10800000" swAng="-5400000"/>
                <a:lnTo>
                  <a:pt x="18000" y="277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СЛОВ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уществление деятельности по направлениям, предусмотренным статьей 3 Закона о технопарк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ответствие деятельности и (или) производимой продукции основным направлениям развития инновационной и научно-технической деятельности, а также приоритетным направлениям развития науки, технологий и техники в Российской Федерации, и (или) перечню критических технолог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сутствие просроченной задолженности  по начисленным налогам, сборам и иным обязательным платежам в бюджеты бюджетной системы Российской Федер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нахождение в стадии ликвидации или проведения процедур банкротства, предусмотренных законодательством Российской Федер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сутствие просроченной (более двух месяцев) задолженности по заработной плате перед работник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 областном реестре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зидентов технопарков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9680" y="1071720"/>
            <a:ext cx="8358120" cy="53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Областной реестр резидентов технопарков –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еречень резидентов технопарков Воронежской области, поддерживаемый в актуализированном состоянии уполномоченным органом (ДП ВО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Реестр резидентов технопарка –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еречень резидентов технопарка, поддерживаемый в актуализированном состоянии управляющей организацией технопар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14200" y="4357800"/>
          <a:ext cx="8786880" cy="2143080"/>
        </p:xfrm>
        <a:graphic>
          <a:graphicData uri="http://schemas.openxmlformats.org/drawingml/2006/table">
            <a:tbl>
              <a:tblPr/>
              <a:tblGrid>
                <a:gridCol w="357480"/>
                <a:gridCol w="1357200"/>
                <a:gridCol w="1214280"/>
                <a:gridCol w="976320"/>
                <a:gridCol w="976320"/>
                <a:gridCol w="976320"/>
                <a:gridCol w="976320"/>
                <a:gridCol w="976320"/>
                <a:gridCol w="976320"/>
              </a:tblGrid>
              <a:tr h="1771560">
                <a:tc>
                  <a:txBody>
                    <a:bodyPr lIns="25560" rIns="2556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№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25560" rIns="2556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олно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аименов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езидента технопар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25560" rIns="2556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нтактная информация резидента технопарка (юридический адрес,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телефон, электронная почта, Ф.И.О. руководителя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25560" rIns="2556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Дата присвоения статуса резидента технопар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25560" rIns="2556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лощадь офисных/производственных помещений, переданных резидент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25560" rIns="2556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иды экономической деятельност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езидента по ОКВЭ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25560" rIns="2556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Тип предприятия (малое, среднее, крупное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25560" rIns="2556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личество рабочих мест (по годам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25560" rIns="2556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Форм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государственно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(областной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оддерж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214200" y="1857240"/>
          <a:ext cx="8786880" cy="1838520"/>
        </p:xfrm>
        <a:graphic>
          <a:graphicData uri="http://schemas.openxmlformats.org/drawingml/2006/table">
            <a:tbl>
              <a:tblPr/>
              <a:tblGrid>
                <a:gridCol w="714600"/>
                <a:gridCol w="857160"/>
                <a:gridCol w="928800"/>
                <a:gridCol w="1014120"/>
                <a:gridCol w="843120"/>
                <a:gridCol w="914400"/>
                <a:gridCol w="879480"/>
                <a:gridCol w="878040"/>
                <a:gridCol w="879480"/>
                <a:gridCol w="877680"/>
              </a:tblGrid>
              <a:tr h="1467000">
                <a:tc>
                  <a:txBody>
                    <a:bodyPr lIns="25560" rIns="2556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гистрационны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ме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25560" rIns="2556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ехнопарка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дрес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тактны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елефон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25560" rIns="2556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лно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ганизации резидента технопар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25560" rIns="2556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тактная информация резидента технопарка (юридический адрес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елефон, электронная почта, Ф.И.О. руководителя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25560" rIns="2556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ата присвоения статуса резидента технопар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25560" rIns="2556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лощадь офисных/производственных помещений, переданных резиден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25560" rIns="2556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ды экономической деятельности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зидента по ОКВЭ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25560" rIns="2556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ип предприятия (индивидуальный предприниматель малое, среднее, крупное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25560" rIns="2556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ичество рабочих мест (по годам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25560" rIns="2556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орм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осударственно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областной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ддерж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pigunova</cp:lastModifiedBy>
  <dcterms:modified xsi:type="dcterms:W3CDTF">2016-06-24T13:19:36Z</dcterms:modified>
  <cp:revision>735</cp:revision>
  <dc:subject/>
  <dc:title>Diapositiva 1</dc:title>
</cp:coreProperties>
</file>